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872-89F8-47F7-8D17-776EA12F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27C-B087-4629-BAFD-DAF5B65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116-D9B6-4233-8EA5-12C2FD7A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AED-0FA8-4ED4-9945-7268D09B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FBF-1390-4FE6-8B47-7C527680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ACD-C80F-4FB5-BB28-85002E09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6DC-AC6A-4CFE-A17B-07BBDFB8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E35-8AEE-4C2B-BA42-444437AD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F9C-449E-4884-9FD7-F49142E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BCE-D46E-474A-800F-69C7D2D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3FD-A1D8-4CA0-A2A1-61914049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AED-2AB5-4DD5-82FC-0A878DC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32D8-8320-468B-AE15-BE5A9807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;Karsyn,Kyle,Felicia,and Ka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380880"/>
            <a:ext cx="426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bondale Ar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9140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685800"/>
          <a:ext cx="9086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08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 txBox="1"/>
          <p:nvPr/>
        </p:nvSpPr>
        <p:spPr>
          <a:xfrm>
            <a:off x="1447920" y="0"/>
            <a:ext cx="26384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diation 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324480" y="685800"/>
            <a:ext cx="2590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 bar grap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7:56:00Z</dcterms:created>
  <dc:creator>neiu</dc:creator>
  <dc:description/>
  <dc:language>en-US</dc:language>
  <cp:lastModifiedBy>neiu</cp:lastModifiedBy>
  <dcterms:modified xsi:type="dcterms:W3CDTF">2009-10-19T18:15:44Z</dcterms:modified>
  <cp:revision>2</cp:revision>
  <dc:subject/>
  <dc:title>Radiation data </dc:title>
</cp:coreProperties>
</file>